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33B2-7784-497A-9909-C191882F9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1B9C-178D-49D1-B297-8E32E8CF9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AE2C-93BE-41B8-86F5-B2FC34AB5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E550-1947-4ED3-8FC4-6EAEA1886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8133-1EB7-4B29-A52C-5A5846FEA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C96A-FEC9-419F-9006-E5EE480DA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A625-65B6-4523-9A76-C8AA9E170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2184-0428-481F-9678-BAF1BB7B0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112C-9094-4244-8348-001F46432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3B77-F427-4ADE-B872-27A0F687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315D-D096-4231-B89A-E5C681B4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33B7-1F93-49B2-BB2E-C2364FDD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7EBC-ABD2-4E51-858A-F25EF8666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blogger-templates.blogspot.com/2005/01/remove-navbar.html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00"/>
                </a:solidFill>
                <a:latin typeface="Arial"/>
              </a:rPr>
              <a:t>Removing the NavB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Blogger.com Bl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6705360" cy="50292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Scroll down in the HTML Code underneath the style code – place your cursor here and make a sp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1600200" y="4572000"/>
            <a:ext cx="4191120" cy="3049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Paste the HTML code from the website here.</a:t>
            </a:r>
            <a:br>
              <a:rPr sz="2800"/>
            </a:b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SAVE TEMPLA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33520" y="1486080"/>
            <a:ext cx="6781680" cy="50860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57200" y="4648320"/>
            <a:ext cx="5410080" cy="45720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257440" y="5486400"/>
            <a:ext cx="2514600" cy="3808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162560" cy="53719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Hit VIEW B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029200" y="990720"/>
            <a:ext cx="838080" cy="22096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733920" y="990720"/>
            <a:ext cx="2133360" cy="17524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Voila!  NavBar is Gon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23924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00"/>
                </a:solidFill>
                <a:latin typeface="Arial"/>
              </a:rPr>
              <a:t>To Add New Posts…you will have to log in through Blogger.com to the Dashboard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Arial"/>
              </a:rPr>
              <a:t>The NavB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14400" y="2209680"/>
            <a:ext cx="7391520" cy="457200"/>
          </a:xfrm>
          <a:prstGeom prst="rect">
            <a:avLst/>
          </a:prstGeom>
          <a:noFill/>
          <a:ln w="5724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Arial"/>
              </a:rPr>
              <a:t>The NavB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he “NEXT BLOG” link is of concern to educato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ink to a random blog – possibly not school appropri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Arial"/>
              </a:rPr>
              <a:t>Go to  </a:t>
            </a:r>
            <a:br>
              <a:rPr sz="4400"/>
            </a:br>
            <a:br>
              <a:rPr sz="4400"/>
            </a:b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blogger-templates.blogspot.com/2005/01/remove-navbar.html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00"/>
                </a:solidFill>
                <a:latin typeface="Arial"/>
              </a:rPr>
              <a:t>Copy and Paste the text in Gre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6934320" cy="5200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5800" y="4495680"/>
            <a:ext cx="2743200" cy="121932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6705720" cy="50292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Login at Blogger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86200" y="2743200"/>
            <a:ext cx="2438280" cy="45720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Choose “Layout” in the Dashboard for the Blo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" y="1504800"/>
            <a:ext cx="6781680" cy="5086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267080" y="4343400"/>
            <a:ext cx="762120" cy="45720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8080" y="1352520"/>
            <a:ext cx="6934320" cy="52005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Choose Edit HTML in the template ta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90920" y="2895480"/>
            <a:ext cx="761760" cy="45720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6934320" cy="52009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Choose Edit HTML in the template ta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09680" y="2819520"/>
            <a:ext cx="762120" cy="45720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21:00:01Z</dcterms:created>
  <dc:creator>jeff.whipple</dc:creator>
  <dc:description/>
  <dc:language>en-US</dc:language>
  <cp:lastModifiedBy>jeff.whipple</cp:lastModifiedBy>
  <dcterms:modified xsi:type="dcterms:W3CDTF">2007-04-02T21:50:34Z</dcterms:modified>
  <cp:revision>1</cp:revision>
  <dc:subject/>
  <dc:title>Removing the NavBar</dc:title>
</cp:coreProperties>
</file>